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D328-1B0C-4FE4-AC9E-48D429652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0E2D-D478-4F34-A86F-EA47BE3C9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992E-BE82-4DB2-9E5E-14D4EF0CC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689C-F6F1-423C-834B-301B76AA3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37916-A563-4687-A41E-693AB2AB6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1AD28-6555-4248-A5BB-2DF83217E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42107-F06C-40B0-9464-A98D87CD5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E52DC-977B-4CBE-A482-E5634A5AA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C57B4-817C-4D1A-9069-CE7FCFF5E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F6BDB-3BB8-4891-AD82-20647A105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ABAB5-DB3C-4255-BA06-1936D6825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E51C-D9A2-4EDD-8540-E5F2438F4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15C55-3E17-4BDC-8462-BDEEB199D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44018-2EDA-4959-AD45-080995741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3BF5E-B827-4B47-962E-0AD2913C0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B52E1-35F5-41EA-B929-0A340F5D3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EF8E2-92D5-4E0D-8BAF-846AAD1D9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26CA-6014-4893-9CB7-2E2F4D86A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2D08-9AEE-4AF0-915D-F207CB11E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6187-013B-414F-84E6-0DA5375DA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4B00-2F67-41B2-8FA4-06ED85555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E5C7-8E59-4FE7-87EB-3E84A1869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D10C-A379-4C4E-A4BF-73DB0DE4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9EBB-B75F-430E-9D0D-BEF3595A8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6434"/>
            </a:gs>
            <a:gs pos="100000">
              <a:srgbClr val="30391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48562c"/>
                </a:gs>
                <a:gs pos="100000">
                  <a:srgbClr val="2d361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23c1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48562c"/>
                </a:gs>
                <a:gs pos="100000">
                  <a:srgbClr val="36402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8562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4512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c482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59683a"/>
                </a:gs>
                <a:gs pos="100000">
                  <a:srgbClr val="54643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2d361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8562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48562c"/>
                </a:gs>
                <a:gs pos="100000">
                  <a:srgbClr val="2f391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a452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5d6c3f"/>
                </a:gs>
                <a:gs pos="100000">
                  <a:srgbClr val="5464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262e1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2a331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84322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637146"/>
                </a:gs>
                <a:gs pos="100000">
                  <a:srgbClr val="5464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4856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f391d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323b1e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4856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53f2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23c1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6542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28301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654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384322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0391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c482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14e2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6434"/>
                  </a:gs>
                  <a:gs pos="100000">
                    <a:srgbClr val="3c482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37146"/>
                  </a:gs>
                  <a:gs pos="100000">
                    <a:srgbClr val="54643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47F54-1CF6-4E59-8003-D2A0B0B644D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6434"/>
            </a:gs>
            <a:gs pos="100000">
              <a:srgbClr val="30391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48562c"/>
                </a:gs>
                <a:gs pos="100000">
                  <a:srgbClr val="2d361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23c1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48562c"/>
                </a:gs>
                <a:gs pos="100000">
                  <a:srgbClr val="36402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8562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4512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c482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59683a"/>
                </a:gs>
                <a:gs pos="100000">
                  <a:srgbClr val="54643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2d361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8562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48562c"/>
                </a:gs>
                <a:gs pos="100000">
                  <a:srgbClr val="2f391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a452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5d6c3f"/>
                </a:gs>
                <a:gs pos="100000">
                  <a:srgbClr val="5464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262e1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2a331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84322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637146"/>
                </a:gs>
                <a:gs pos="100000">
                  <a:srgbClr val="5464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4856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f391d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323b1e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4856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53f2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23c1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6542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28301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654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384322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0391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c482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14e2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6434"/>
                  </a:gs>
                  <a:gs pos="100000">
                    <a:srgbClr val="3c482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37146"/>
                  </a:gs>
                  <a:gs pos="100000">
                    <a:srgbClr val="54643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rebuchet MS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4DDF0-FC07-4FF1-A424-85A4919D3D9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527c3a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85b3b1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6434"/>
            </a:gs>
            <a:gs pos="100000">
              <a:srgbClr val="30391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rebuchet MS"/>
              </a:rPr>
              <a:t>How to do Climographs for your Wikispace</a:t>
            </a:r>
            <a:endParaRPr b="0" lang="en-US" sz="48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6434"/>
            </a:gs>
            <a:gs pos="100000">
              <a:srgbClr val="30391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rebuchet MS"/>
              </a:rPr>
              <a:t>Step 9: Click </a:t>
            </a:r>
            <a:r>
              <a:rPr b="1" i="1" lang="en-US" sz="3600" spc="-1" strike="noStrike">
                <a:solidFill>
                  <a:srgbClr val="ffff66"/>
                </a:solidFill>
                <a:latin typeface="Trebuchet MS"/>
              </a:rPr>
              <a:t>OK</a:t>
            </a:r>
            <a:r>
              <a:rPr b="0" lang="en-US" sz="3600" spc="-1" strike="noStrike">
                <a:solidFill>
                  <a:srgbClr val="ffffcc"/>
                </a:solidFill>
                <a:latin typeface="Trebuchet MS"/>
              </a:rPr>
              <a:t> when the dialogue box comes up.</a:t>
            </a:r>
            <a:endParaRPr b="0" lang="en-US" sz="36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828800" y="1600200"/>
            <a:ext cx="5486400" cy="43639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4724280" y="5410080"/>
            <a:ext cx="137160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6434"/>
            </a:gs>
            <a:gs pos="100000">
              <a:srgbClr val="30391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rebuchet MS"/>
              </a:rPr>
              <a:t>Step 10: </a:t>
            </a:r>
            <a:r>
              <a:rPr b="1" i="1" lang="en-US" sz="3600" spc="-1" strike="noStrike">
                <a:solidFill>
                  <a:srgbClr val="ffff66"/>
                </a:solidFill>
                <a:latin typeface="Arial"/>
              </a:rPr>
              <a:t>Right</a:t>
            </a:r>
            <a:r>
              <a:rPr b="0" lang="en-US" sz="3600" spc="-1" strike="noStrike">
                <a:solidFill>
                  <a:srgbClr val="ffffcc"/>
                </a:solidFill>
                <a:latin typeface="Trebuchet MS"/>
              </a:rPr>
              <a:t> click on the blank page and select </a:t>
            </a:r>
            <a:r>
              <a:rPr b="1" i="1" lang="en-US" sz="3600" spc="-1" strike="noStrike">
                <a:solidFill>
                  <a:srgbClr val="ffff66"/>
                </a:solidFill>
                <a:latin typeface="Trebuchet MS"/>
              </a:rPr>
              <a:t>Paste</a:t>
            </a:r>
            <a:r>
              <a:rPr b="0" i="1" lang="en-US" sz="3600" spc="-1" strike="noStrike">
                <a:solidFill>
                  <a:srgbClr val="ffffcc"/>
                </a:solidFill>
                <a:latin typeface="Trebuchet MS"/>
              </a:rPr>
              <a:t>.</a:t>
            </a:r>
            <a:endParaRPr b="0" lang="en-US" sz="36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7010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6434"/>
            </a:gs>
            <a:gs pos="100000">
              <a:srgbClr val="30391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rebuchet MS"/>
              </a:rPr>
              <a:t>Step 11: Once copied, select </a:t>
            </a:r>
            <a:r>
              <a:rPr b="1" i="1" lang="en-US" sz="3600" spc="-1" strike="noStrike">
                <a:solidFill>
                  <a:srgbClr val="ffff66"/>
                </a:solidFill>
                <a:latin typeface="Trebuchet MS"/>
              </a:rPr>
              <a:t>File =&gt; </a:t>
            </a:r>
            <a:r>
              <a:rPr b="1" i="1" lang="en-US" sz="3600" spc="-1" strike="noStrike">
                <a:solidFill>
                  <a:srgbClr val="ffff66"/>
                </a:solidFill>
                <a:latin typeface="Arial"/>
              </a:rPr>
              <a:t>Save</a:t>
            </a:r>
            <a:r>
              <a:rPr b="1" i="1" lang="en-US" sz="3600" spc="-1" strike="noStrike">
                <a:solidFill>
                  <a:srgbClr val="ffff66"/>
                </a:solidFill>
                <a:latin typeface="Trebuchet MS"/>
              </a:rPr>
              <a:t> As</a:t>
            </a:r>
            <a:endParaRPr b="0" lang="en-US" sz="36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6434"/>
            </a:gs>
            <a:gs pos="100000">
              <a:srgbClr val="30391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rebuchet MS"/>
              </a:rPr>
              <a:t>Step 12: Make sure to name it something appropriate and save it as a </a:t>
            </a:r>
            <a:r>
              <a:rPr b="1" i="1" lang="en-US" sz="2800" spc="-1" strike="noStrike">
                <a:solidFill>
                  <a:srgbClr val="ffff66"/>
                </a:solidFill>
                <a:latin typeface="Trebuchet MS"/>
              </a:rPr>
              <a:t>JPEG</a:t>
            </a:r>
            <a:r>
              <a:rPr b="0" lang="en-US" sz="3200" spc="-1" strike="noStrike">
                <a:solidFill>
                  <a:srgbClr val="ffffcc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447920" y="1433520"/>
            <a:ext cx="6248160" cy="54244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981080" y="5486400"/>
            <a:ext cx="1600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1" name=""/>
          <p:cNvSpPr/>
          <p:nvPr/>
        </p:nvSpPr>
        <p:spPr>
          <a:xfrm>
            <a:off x="1981080" y="5791320"/>
            <a:ext cx="1600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6434"/>
            </a:gs>
            <a:gs pos="100000">
              <a:srgbClr val="30391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rebuchet MS"/>
              </a:rPr>
              <a:t>Step 13</a:t>
            </a:r>
            <a:endParaRPr b="0" lang="en-US" sz="44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You can now upload this picture to your wikipage.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6434"/>
            </a:gs>
            <a:gs pos="100000">
              <a:srgbClr val="30391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rebuchet MS"/>
              </a:rPr>
              <a:t>Step 1: In Excel, enter the months in cells A2 through A13, </a:t>
            </a:r>
            <a:r>
              <a:rPr b="1" i="1" lang="en-US" sz="2800" spc="-1" strike="noStrike">
                <a:solidFill>
                  <a:srgbClr val="ffff66"/>
                </a:solidFill>
                <a:latin typeface="Trebuchet MS"/>
              </a:rPr>
              <a:t>Precipitation in B1</a:t>
            </a:r>
            <a:r>
              <a:rPr b="0" lang="en-US" sz="2800" spc="-1" strike="noStrike">
                <a:solidFill>
                  <a:srgbClr val="ffffcc"/>
                </a:solidFill>
                <a:latin typeface="Trebuchet MS"/>
              </a:rPr>
              <a:t>, and </a:t>
            </a:r>
            <a:r>
              <a:rPr b="1" i="1" lang="en-US" sz="2800" spc="-1" strike="noStrike">
                <a:solidFill>
                  <a:srgbClr val="ffff66"/>
                </a:solidFill>
                <a:latin typeface="Trebuchet MS"/>
              </a:rPr>
              <a:t>Temperature in C1</a:t>
            </a:r>
            <a:endParaRPr b="0" lang="en-US" sz="28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838080" y="1449360"/>
            <a:ext cx="754380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6434"/>
            </a:gs>
            <a:gs pos="100000">
              <a:srgbClr val="30391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rebuchet MS"/>
              </a:rPr>
              <a:t>Step 2: Take the numbers that you filled in on the Climate part of your research, and plug them into the excel sheet.  </a:t>
            </a:r>
            <a:r>
              <a:rPr b="1" i="1" lang="en-US" sz="2800" spc="-1" strike="noStrike">
                <a:solidFill>
                  <a:srgbClr val="ffff66"/>
                </a:solidFill>
                <a:latin typeface="Trebuchet MS"/>
              </a:rPr>
              <a:t>Remember do NOT put degrees or inches, only numbers.</a:t>
            </a:r>
            <a:endParaRPr b="0" lang="en-US" sz="28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838080" y="1668600"/>
            <a:ext cx="7239240" cy="51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6434"/>
            </a:gs>
            <a:gs pos="100000">
              <a:srgbClr val="30391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rebuchet MS"/>
              </a:rPr>
              <a:t>Step 3: After filling in the temp. and precip., highlight everything and click on </a:t>
            </a:r>
            <a:r>
              <a:rPr b="1" i="1" lang="en-US" sz="3200" spc="-1" strike="noStrike">
                <a:solidFill>
                  <a:srgbClr val="ffff66"/>
                </a:solidFill>
                <a:latin typeface="Trebuchet MS"/>
              </a:rPr>
              <a:t>chart wizard.</a:t>
            </a: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7391520" cy="52992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505320" y="1828800"/>
            <a:ext cx="304560" cy="3049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0" name=""/>
          <p:cNvSpPr/>
          <p:nvPr/>
        </p:nvSpPr>
        <p:spPr>
          <a:xfrm>
            <a:off x="2819520" y="1905120"/>
            <a:ext cx="609480" cy="759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6434"/>
            </a:gs>
            <a:gs pos="100000">
              <a:srgbClr val="30391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rebuchet MS"/>
              </a:rPr>
              <a:t>Step 4: Click on the </a:t>
            </a:r>
            <a:r>
              <a:rPr b="1" i="1" lang="en-US" sz="3200" spc="-1" strike="noStrike">
                <a:solidFill>
                  <a:srgbClr val="ffff66"/>
                </a:solidFill>
                <a:latin typeface="Trebuchet MS"/>
              </a:rPr>
              <a:t>Custom tab</a:t>
            </a:r>
            <a:r>
              <a:rPr b="0" lang="en-US" sz="3200" spc="-1" strike="noStrike">
                <a:solidFill>
                  <a:srgbClr val="ffffcc"/>
                </a:solidFill>
                <a:latin typeface="Trebuchet MS"/>
              </a:rPr>
              <a:t>, scroll down to </a:t>
            </a:r>
            <a:r>
              <a:rPr b="1" i="1" lang="en-US" sz="3200" spc="-1" strike="noStrike">
                <a:solidFill>
                  <a:srgbClr val="ffff66"/>
                </a:solidFill>
                <a:latin typeface="Trebuchet MS"/>
              </a:rPr>
              <a:t>Line-Column on 2 axes</a:t>
            </a:r>
            <a:r>
              <a:rPr b="0" lang="en-US" sz="3200" spc="-1" strike="noStrike">
                <a:solidFill>
                  <a:srgbClr val="ffffcc"/>
                </a:solidFill>
                <a:latin typeface="Trebuchet MS"/>
              </a:rPr>
              <a:t>, and click next twice. </a:t>
            </a: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914400" y="1558800"/>
            <a:ext cx="7391520" cy="52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6434"/>
            </a:gs>
            <a:gs pos="100000">
              <a:srgbClr val="30391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rebuchet MS"/>
              </a:rPr>
              <a:t>Step 5: Fill in the Title of the chart with the city you are doing, </a:t>
            </a:r>
            <a:r>
              <a:rPr b="1" i="1" lang="en-US" sz="2400" spc="-1" strike="noStrike">
                <a:solidFill>
                  <a:srgbClr val="ffff66"/>
                </a:solidFill>
                <a:latin typeface="Trebuchet MS"/>
              </a:rPr>
              <a:t>the x-axis with “month,”</a:t>
            </a:r>
            <a:r>
              <a:rPr b="0" lang="en-US" sz="2400" spc="-1" strike="noStrike">
                <a:solidFill>
                  <a:srgbClr val="ffffcc"/>
                </a:solidFill>
                <a:latin typeface="Trebuchet MS"/>
              </a:rPr>
              <a:t> </a:t>
            </a:r>
            <a:r>
              <a:rPr b="1" i="1" lang="en-US" sz="2400" spc="-1" strike="noStrike">
                <a:solidFill>
                  <a:srgbClr val="ffff66"/>
                </a:solidFill>
                <a:latin typeface="Trebuchet MS"/>
              </a:rPr>
              <a:t>the y-axis with “Precipitation,” the 2nd y-axis with “Temperature,” and leave the 2nd x-axis blank.</a:t>
            </a:r>
            <a:endParaRPr b="0" lang="en-US" sz="24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693432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6434"/>
            </a:gs>
            <a:gs pos="100000">
              <a:srgbClr val="30391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rebuchet MS"/>
              </a:rPr>
              <a:t>Step 6: Choose that you want the chart located in a new sheet. Then click </a:t>
            </a:r>
            <a:r>
              <a:rPr b="1" i="1" lang="en-US" sz="3600" spc="-1" strike="noStrike">
                <a:solidFill>
                  <a:srgbClr val="ffff66"/>
                </a:solidFill>
                <a:latin typeface="Trebuchet MS"/>
              </a:rPr>
              <a:t>Finish</a:t>
            </a:r>
            <a:endParaRPr b="0" lang="en-US" sz="36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57200" y="2209680"/>
            <a:ext cx="8077320" cy="35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6434"/>
            </a:gs>
            <a:gs pos="100000">
              <a:srgbClr val="30391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rebuchet MS"/>
              </a:rPr>
              <a:t>Step 7: </a:t>
            </a:r>
            <a:r>
              <a:rPr b="0" lang="en-US" sz="3600" spc="-1" strike="noStrike">
                <a:solidFill>
                  <a:srgbClr val="ffffcc"/>
                </a:solidFill>
                <a:latin typeface="Trebuchet MS"/>
              </a:rPr>
              <a:t>Click</a:t>
            </a:r>
            <a:r>
              <a:rPr b="0" lang="en-US" sz="4000" spc="-1" strike="noStrike">
                <a:solidFill>
                  <a:srgbClr val="ffffcc"/>
                </a:solidFill>
                <a:latin typeface="Trebuchet MS"/>
              </a:rPr>
              <a:t> on the chart to select it, then go to </a:t>
            </a:r>
            <a:r>
              <a:rPr b="0" i="1" lang="en-US" sz="4000" spc="-1" strike="noStrike">
                <a:solidFill>
                  <a:srgbClr val="ffff66"/>
                </a:solidFill>
                <a:latin typeface="Trebuchet MS"/>
              </a:rPr>
              <a:t>Edit =&gt; Copy</a:t>
            </a:r>
            <a:r>
              <a:rPr b="0" lang="en-US" sz="4000" spc="-1" strike="noStrike">
                <a:solidFill>
                  <a:srgbClr val="ffffcc"/>
                </a:solidFill>
                <a:latin typeface="Trebuchet MS"/>
              </a:rPr>
              <a:t>.</a:t>
            </a:r>
            <a:endParaRPr b="0" lang="en-US" sz="40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086600" cy="53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6434"/>
            </a:gs>
            <a:gs pos="100000">
              <a:srgbClr val="30391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rebuchet MS"/>
              </a:rPr>
              <a:t>Step 8: Open </a:t>
            </a:r>
            <a:r>
              <a:rPr b="1" i="1" lang="en-US" sz="3600" spc="-1" strike="noStrike">
                <a:solidFill>
                  <a:srgbClr val="ffff66"/>
                </a:solidFill>
                <a:latin typeface="Trebuchet MS"/>
              </a:rPr>
              <a:t>Fireworks</a:t>
            </a:r>
            <a:r>
              <a:rPr b="0" lang="en-US" sz="3600" spc="-1" strike="noStrike">
                <a:solidFill>
                  <a:srgbClr val="ffffcc"/>
                </a:solidFill>
                <a:latin typeface="Trebuchet MS"/>
              </a:rPr>
              <a:t> and go to </a:t>
            </a:r>
            <a:r>
              <a:rPr b="1" i="1" lang="en-US" sz="3600" spc="-1" strike="noStrike">
                <a:solidFill>
                  <a:srgbClr val="ffff66"/>
                </a:solidFill>
                <a:latin typeface="Trebuchet MS"/>
              </a:rPr>
              <a:t>File =&gt; New</a:t>
            </a:r>
            <a:endParaRPr b="0" lang="en-US" sz="36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7010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14:21:48Z</dcterms:created>
  <dc:creator>Irving ISD</dc:creator>
  <dc:description/>
  <dc:language>en-US</dc:language>
  <cp:lastModifiedBy>Irving ISD</cp:lastModifiedBy>
  <dcterms:modified xsi:type="dcterms:W3CDTF">2008-02-29T14:53:14Z</dcterms:modified>
  <cp:revision>3</cp:revision>
  <dc:subject/>
  <dc:title>How to do Climographs for your Wikispace</dc:title>
</cp:coreProperties>
</file>